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F605-2DD5-4D8B-976B-779F3F686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C2E2-EBA8-461A-81B8-9D5D2BF15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lutes alone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D1AE-2FF2-4127-8336-2D7D854D4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lutes and pressure simultaneously; the two in correct amounts cancel each other, since solute concentration is inversely proportional to water potential and pressure is directly proportional to water potent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8D4A-0D1B-4754-9B8A-A2CE13915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lutes and even more press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8417-23FE-40AE-98F2-BFB7DBD2F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lutes to one side, but even more negative pressure to the other; in this case the negative pressure on one side overrides what would otherwise be a tendency for water to move towards the sol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CEC4-4B8F-4DA3-B4BD-7F3B7E3C9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taken in by roots, and is a by-product of PS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894B-D4B8-4B56-8567-3B9E91098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0E98-652F-471F-959E-64D4AE330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5BF5-6BD1-4FF0-902D-67D8CA128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46E2-29DC-42F7-886D-D9DB4ADEE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166E-E74E-44D2-8885-EDB04813D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AA11-169C-4E13-86A9-E575971F7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F37D-FA33-4885-A5A4-A237BDCA8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D941-FD2E-488E-BB4E-6304CD9B7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35E1-E35D-4C4F-8A39-ECD6208DA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See the early part of the lecture for the details of how active transport creates membrane potentials that fuel the uptake of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2FB5-A6BD-4AF9-A7AD-1CE8C6280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B0B6-C452-4D83-AB57-C8D0FC95A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D8E4-86C8-4A5C-975F-744FB2F17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143A-FF7E-4861-ABB2-8EE657390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1CCC-6C5A-402A-ACA8-7B2185C71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292C-4EB7-4021-8667-FC49F3EC4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2C42-EFD5-4423-89E5-66908B8C1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ECDF-9E67-44DB-8FA3-8E84DBA22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FEAC-06FB-426F-8663-2E50FCC3B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83F8-6F53-4C46-92C1-1DB65CC9E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4A21-130E-4430-BAEF-BE4EFB8FE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09A5-122D-428F-A8EE-786681863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805C-9136-4366-AAFB-E2D855243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2C95-0A38-42D6-AAB4-080F9C430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6B93-DF22-4D77-B0D2-0FECEB891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0A48-224C-47E5-A148-7EDE1B36C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1B46-3C89-4C54-8189-90B2636BD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752D-5F06-4DD0-BB67-C4C762D6E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61BF-9E12-49D0-A410-E35A4DDBC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08E6-9FCE-46C5-A66F-C00AE4725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1E6C-D8D4-45F9-B433-3BD348A70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2D0C-1611-42C5-8C9A-3033E355F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51FB-4C5D-4283-8C68-D596EA9FA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A5E9-3A64-4875-8105-B7D038BFE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F26B-2ECE-447C-B738-45168B79E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3BF0-B6CB-4188-888E-811A903BB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4144-EA9C-48F5-A4D1-201AC6D53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BF6C-FEDF-40A0-A3F3-FAFA05091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9AB-1643-4BA1-8CA3-9F1EF439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D52-C18E-450E-BB39-BCF0828D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F2A-45A7-4020-944F-D9C897B8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A2B-CE7A-41CC-96B7-F0B374A1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B40-C9EF-41A1-B004-EAB42CAE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8FC-AE34-4FE7-98A4-0C4A5DB9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9F8-2F1F-4796-A451-0E5F7238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DAC-6B77-4003-B08C-F8B2E306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1DD-0706-4D49-A989-BDB2C9E6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5A2-6C18-48D1-B83D-A1531995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E97-3C97-40CB-BCF1-93054C6A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20D-DFFC-4448-BB97-02ADEF7F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b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9D07-CA60-46A5-A93F-3DAE658B8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320" y="1868040"/>
            <a:ext cx="2971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 Black"/>
              </a:rPr>
              <a:t>Transport i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004_gallery_stem_diagram"/>
          <p:cNvPicPr/>
          <p:nvPr/>
        </p:nvPicPr>
        <p:blipFill>
          <a:blip r:embed="rId1"/>
          <a:stretch/>
        </p:blipFill>
        <p:spPr>
          <a:xfrm>
            <a:off x="3673440" y="1687680"/>
            <a:ext cx="50738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0"/>
          <p:cNvSpPr/>
          <p:nvPr/>
        </p:nvSpPr>
        <p:spPr>
          <a:xfrm>
            <a:off x="0" y="1797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K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ons pass through transport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1"/>
          <a:srcRect l="0" t="47156" r="50002" b="11608"/>
          <a:stretch/>
        </p:blipFill>
        <p:spPr>
          <a:xfrm>
            <a:off x="533520" y="2895480"/>
            <a:ext cx="6578640" cy="2862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730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membrane potential provides the energy to uptake some minerals,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e.g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, K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09480" y="5410080"/>
            <a:ext cx="2133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7169400" y="380844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coupled ions pass through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[co-]transport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7300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membrane potential provides the energy for  cotransport of ions up their concentration gradients, as H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ons move down thei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rcRect l="50385" t="1030" r="24" b="51751"/>
          <a:stretch/>
        </p:blipFill>
        <p:spPr>
          <a:xfrm>
            <a:off x="1066680" y="2895480"/>
            <a:ext cx="5639040" cy="2853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143000" y="5410080"/>
            <a:ext cx="2133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7169400" y="380844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0" y="7300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membrane potential provides the energy for cotransport of some neutral molecules (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e.g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, sugar) up their concentration gradients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s H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ons move down thei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143000" y="5410080"/>
            <a:ext cx="2133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rcRect l="50385" t="48142" r="24" b="3000"/>
          <a:stretch/>
        </p:blipFill>
        <p:spPr>
          <a:xfrm>
            <a:off x="1219320" y="2895480"/>
            <a:ext cx="5410080" cy="28306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7169400" y="380844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smosis is diffusion of water across 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0" y="14763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o predict the movement of water across a membrane alone (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e.g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, an animal cell), it is sufficient to know whether the inside solute concentration is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&lt; or &gt; the outside solute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0" y="3457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o predict the movement of water across a membrane plus cell wall (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e.g.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, a plant cell), we must know both the solute concentration difference and the pressure dif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0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0" y="838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ater potential is a combined measure of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lute concentration an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0" y="1903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(psi) </a:t>
            </a:r>
            <a:r>
              <a:rPr b="1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measured in MPa (megapascals;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1 MPa ≈ 10 atmosphe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0" y="3200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ure water in an open container: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= 0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0" y="4052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olutes reduce the value of 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0" y="4844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ressure increases the value of 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0" y="560700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Negative pressure (tension) decreases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value of 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0" y="790560"/>
            <a:ext cx="9144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ater potential = pressure potential +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olute (osmotic)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= 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496080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ater will always move across a membrane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rom higher to lower 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0" y="324792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can be positive, 0, or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s always 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0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0" t="0" r="0" b="2998"/>
          <a:stretch/>
        </p:blipFill>
        <p:spPr>
          <a:xfrm>
            <a:off x="4114800" y="76320"/>
            <a:ext cx="4943520" cy="6705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114800" y="3429000"/>
            <a:ext cx="5105520" cy="3352680"/>
          </a:xfrm>
          <a:prstGeom prst="rect">
            <a:avLst/>
          </a:prstGeom>
          <a:solidFill>
            <a:srgbClr val="faebd7"/>
          </a:solidFill>
          <a:ln w="9360">
            <a:solidFill>
              <a:srgbClr val="faeb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585120" y="76320"/>
            <a:ext cx="2590560" cy="3352680"/>
          </a:xfrm>
          <a:prstGeom prst="rect">
            <a:avLst/>
          </a:prstGeom>
          <a:solidFill>
            <a:srgbClr val="faebd7"/>
          </a:solidFill>
          <a:ln w="9360">
            <a:solidFill>
              <a:srgbClr val="faeb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rcRect l="0" t="0" r="0" b="2998"/>
          <a:stretch/>
        </p:blipFill>
        <p:spPr>
          <a:xfrm>
            <a:off x="4114800" y="76320"/>
            <a:ext cx="4943520" cy="6705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114800" y="3429000"/>
            <a:ext cx="5105520" cy="3352680"/>
          </a:xfrm>
          <a:prstGeom prst="rect">
            <a:avLst/>
          </a:prstGeom>
          <a:solidFill>
            <a:srgbClr val="faebd7"/>
          </a:solidFill>
          <a:ln w="9360">
            <a:solidFill>
              <a:srgbClr val="faeb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0" b="2998"/>
          <a:stretch/>
        </p:blipFill>
        <p:spPr>
          <a:xfrm>
            <a:off x="4114800" y="76320"/>
            <a:ext cx="4943520" cy="67053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573960" y="3429000"/>
            <a:ext cx="2646360" cy="3352680"/>
          </a:xfrm>
          <a:prstGeom prst="rect">
            <a:avLst/>
          </a:prstGeom>
          <a:solidFill>
            <a:srgbClr val="faebd7"/>
          </a:solidFill>
          <a:ln w="9360">
            <a:solidFill>
              <a:srgbClr val="faeb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0" t="0" r="0" b="2998"/>
          <a:stretch/>
        </p:blipFill>
        <p:spPr>
          <a:xfrm>
            <a:off x="4114800" y="76320"/>
            <a:ext cx="4943520" cy="6705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4095720" y="533520"/>
            <a:ext cx="489600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7459920" y="6261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55160" y="15228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lants requi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46120" y="91440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36400" y="153828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45400" y="290988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46120" y="222408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533520" y="3562200"/>
            <a:ext cx="548640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cronutr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besides C, H,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, K, Mg, N, P,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cro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, Cl, Cu, Fe, Mn, Mo, Ni, Z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1676520" y="914400"/>
            <a:ext cx="380880" cy="1905120"/>
          </a:xfrm>
          <a:custGeom>
            <a:avLst/>
            <a:gdLst>
              <a:gd name="textAreaLeft" fmla="*/ 0 w 380880"/>
              <a:gd name="textAreaRight" fmla="*/ 137520 w 3808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2136240" y="161460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real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rcRect l="0" t="0" r="0" b="51005"/>
          <a:stretch/>
        </p:blipFill>
        <p:spPr>
          <a:xfrm>
            <a:off x="4678200" y="246240"/>
            <a:ext cx="4343400" cy="32652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142920" y="1893960"/>
            <a:ext cx="434160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laccid c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4740120" y="284040"/>
            <a:ext cx="19227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815080" y="1405080"/>
            <a:ext cx="3160800" cy="20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real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rcRect l="0" t="0" r="0" b="51005"/>
          <a:stretch/>
        </p:blipFill>
        <p:spPr>
          <a:xfrm>
            <a:off x="4678200" y="246240"/>
            <a:ext cx="4343400" cy="3265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142920" y="1893960"/>
            <a:ext cx="434160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laccid c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7397640" y="1405080"/>
            <a:ext cx="1578240" cy="16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real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rcRect l="0" t="0" r="0" b="51005"/>
          <a:stretch/>
        </p:blipFill>
        <p:spPr>
          <a:xfrm>
            <a:off x="4678200" y="246240"/>
            <a:ext cx="4343400" cy="3265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142920" y="1893960"/>
            <a:ext cx="434160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laccid c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44360" y="3173400"/>
            <a:ext cx="434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f a cell loses water to the environment, it plasmoly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real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rcRect l="0" t="0" r="0" b="51005"/>
          <a:stretch/>
        </p:blipFill>
        <p:spPr>
          <a:xfrm>
            <a:off x="4678200" y="246240"/>
            <a:ext cx="4343400" cy="3265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rcRect l="0" t="50003" r="0" b="5002"/>
          <a:stretch/>
        </p:blipFill>
        <p:spPr>
          <a:xfrm>
            <a:off x="4675320" y="3500280"/>
            <a:ext cx="4352760" cy="3005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142920" y="1893960"/>
            <a:ext cx="434160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laccid c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4700520" y="3467160"/>
            <a:ext cx="19465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5775480" y="4587840"/>
            <a:ext cx="322236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real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rcRect l="0" t="0" r="0" b="51005"/>
          <a:stretch/>
        </p:blipFill>
        <p:spPr>
          <a:xfrm>
            <a:off x="4678200" y="246240"/>
            <a:ext cx="4343400" cy="3265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2"/>
          <a:srcRect l="0" t="50003" r="0" b="5002"/>
          <a:stretch/>
        </p:blipFill>
        <p:spPr>
          <a:xfrm>
            <a:off x="4675320" y="3500280"/>
            <a:ext cx="4352760" cy="3005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142920" y="1893960"/>
            <a:ext cx="434160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laccid c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7389720" y="4587840"/>
            <a:ext cx="1608120" cy="15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real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rcRect l="0" t="0" r="0" b="51005"/>
          <a:stretch/>
        </p:blipFill>
        <p:spPr>
          <a:xfrm>
            <a:off x="4678200" y="246240"/>
            <a:ext cx="4343400" cy="3265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2"/>
          <a:srcRect l="0" t="50003" r="0" b="5002"/>
          <a:stretch/>
        </p:blipFill>
        <p:spPr>
          <a:xfrm>
            <a:off x="4675320" y="3500280"/>
            <a:ext cx="4352760" cy="3005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142920" y="1893960"/>
            <a:ext cx="434160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laccid c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144360" y="3173400"/>
            <a:ext cx="434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f a cell gains water from the environment, it becomes turg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146160" y="4754520"/>
            <a:ext cx="459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urgor = pressure that keeps cell membrane pressed against cel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real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rcRect l="0" t="0" r="0" b="51005"/>
          <a:stretch/>
        </p:blipFill>
        <p:spPr>
          <a:xfrm>
            <a:off x="4678200" y="246240"/>
            <a:ext cx="4343400" cy="3265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rcRect l="0" t="50003" r="0" b="5002"/>
          <a:stretch/>
        </p:blipFill>
        <p:spPr>
          <a:xfrm>
            <a:off x="4675320" y="3500280"/>
            <a:ext cx="4352760" cy="3005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142920" y="1893960"/>
            <a:ext cx="434160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laccid c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44360" y="3173400"/>
            <a:ext cx="434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f a cell gains water from the environment, it becomes turg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46160" y="4754520"/>
            <a:ext cx="434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quaporins are transport proteins that form channels fo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52280" y="152280"/>
            <a:ext cx="873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Armed with this 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965160" y="103824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4195800" y="1052640"/>
            <a:ext cx="4479840" cy="28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7364520" y="2475000"/>
            <a:ext cx="96840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027080" y="1076400"/>
            <a:ext cx="767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lutes pass into roots from the dilute soi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984600" y="63388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965160" y="103824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4195800" y="1052640"/>
            <a:ext cx="4479840" cy="28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7364520" y="2475000"/>
            <a:ext cx="96840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027080" y="1076400"/>
            <a:ext cx="76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ymplastic rout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753000" y="1514520"/>
            <a:ext cx="4908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tive transport occurs through proton pumps, that set up membrane potentials, that drive the uptake of mineral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984600" y="63388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4095720" y="533520"/>
            <a:ext cx="489600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152280" y="152280"/>
            <a:ext cx="381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ere we explore how these substances are transported within pla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52280" y="231444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ut first we need some more 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7459920" y="6261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965160" y="103824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4195800" y="1052640"/>
            <a:ext cx="4479840" cy="28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7364520" y="2475000"/>
            <a:ext cx="96840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1027080" y="1076400"/>
            <a:ext cx="76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oplastic rout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3753000" y="1514520"/>
            <a:ext cx="490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me water and dissolved minerals passively diffuse into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984600" y="63388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965160" y="103824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4195800" y="1052640"/>
            <a:ext cx="4479840" cy="28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364520" y="2475000"/>
            <a:ext cx="96840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027080" y="1076400"/>
            <a:ext cx="767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lutes diffuse through the cells (or cell walls) of the epidermis and cortex (the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             innermost layer of which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             is the endoderm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984600" y="63388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965160" y="103824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4195800" y="1052640"/>
            <a:ext cx="4479840" cy="28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7364520" y="2475000"/>
            <a:ext cx="96840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971640" y="1076400"/>
            <a:ext cx="78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t the endodermis, only the symplastic route is accessible, owing to the Casparian str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54280" y="2046240"/>
            <a:ext cx="5307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hapt. 35 observed that the endodermis regulates the passage of substances into the vascular s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984600" y="63388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965160" y="103824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5"/>
          <p:cNvSpPr/>
          <p:nvPr/>
        </p:nvSpPr>
        <p:spPr>
          <a:xfrm>
            <a:off x="4195800" y="1052640"/>
            <a:ext cx="4479840" cy="28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7364520" y="2475000"/>
            <a:ext cx="96840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971640" y="1076400"/>
            <a:ext cx="78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final layer of live cells actively transports solutes into their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3760920" y="2284560"/>
            <a:ext cx="453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lutes then diffuse into xylem vessels to be transported up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984600" y="63388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965160" y="103824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4195800" y="1052640"/>
            <a:ext cx="4479840" cy="28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7364520" y="2475000"/>
            <a:ext cx="96840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971640" y="1076400"/>
            <a:ext cx="78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final layer of live cells actively transports solutes into their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760920" y="2284560"/>
            <a:ext cx="45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final layer may be an endodermal cell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 rot="17521800">
            <a:off x="5996520" y="3956760"/>
            <a:ext cx="1682640" cy="608040"/>
          </a:xfrm>
          <a:prstGeom prst="leftArrow">
            <a:avLst>
              <a:gd name="adj1" fmla="val 50000"/>
              <a:gd name="adj2" fmla="val 6918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984600" y="63388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965160" y="103824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4195800" y="1052640"/>
            <a:ext cx="4479840" cy="28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7364520" y="2475000"/>
            <a:ext cx="96840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971640" y="1076400"/>
            <a:ext cx="78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final layer of live cells actively transports solutes into their cell wal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213080" y="2284560"/>
            <a:ext cx="45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r a cell of the pericycle (outermost layer of ste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 rot="2490000">
            <a:off x="6335280" y="5838480"/>
            <a:ext cx="1683000" cy="608040"/>
          </a:xfrm>
          <a:prstGeom prst="leftArrow">
            <a:avLst>
              <a:gd name="adj1" fmla="val 50000"/>
              <a:gd name="adj2" fmla="val 69198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984600" y="63388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1"/>
          <a:srcRect l="0" t="12912" r="0" b="13535"/>
          <a:stretch/>
        </p:blipFill>
        <p:spPr>
          <a:xfrm>
            <a:off x="0" y="979560"/>
            <a:ext cx="9136080" cy="50464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7"/>
          <p:cNvSpPr/>
          <p:nvPr/>
        </p:nvSpPr>
        <p:spPr>
          <a:xfrm>
            <a:off x="111240" y="6060960"/>
            <a:ext cx="88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 In this figure the pericycle is dra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continuous layer of cel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196920" y="801720"/>
            <a:ext cx="8642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corrhizal mutualism (fungus + ro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FG23_20a"/>
          <p:cNvPicPr/>
          <p:nvPr/>
        </p:nvPicPr>
        <p:blipFill>
          <a:blip r:embed="rId1"/>
          <a:srcRect l="2400" t="24750" r="3000" b="24750"/>
          <a:stretch/>
        </p:blipFill>
        <p:spPr>
          <a:xfrm>
            <a:off x="617400" y="3301920"/>
            <a:ext cx="4619880" cy="3287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FG23_20b"/>
          <p:cNvPicPr/>
          <p:nvPr/>
        </p:nvPicPr>
        <p:blipFill>
          <a:blip r:embed="rId2"/>
          <a:srcRect l="18450" t="1200" r="18450" b="1200"/>
          <a:stretch/>
        </p:blipFill>
        <p:spPr>
          <a:xfrm>
            <a:off x="5535720" y="3191040"/>
            <a:ext cx="3058920" cy="35496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8"/>
          <p:cNvSpPr/>
          <p:nvPr/>
        </p:nvSpPr>
        <p:spPr>
          <a:xfrm>
            <a:off x="5554440" y="5784840"/>
            <a:ext cx="1195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un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6872040" y="5786280"/>
            <a:ext cx="1195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ith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un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198360" y="1517760"/>
            <a:ext cx="8642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gus helps plant obtain water and minerals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, 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 feeds sugars to the fun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12680" y="614520"/>
            <a:ext cx="874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species (including many legumes) have root nodules that house N-fixing bacteri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FG23_21"/>
          <p:cNvPicPr/>
          <p:nvPr/>
        </p:nvPicPr>
        <p:blipFill>
          <a:blip r:embed="rId1"/>
          <a:srcRect l="0" t="12000" r="0" b="15600"/>
          <a:stretch/>
        </p:blipFill>
        <p:spPr>
          <a:xfrm>
            <a:off x="1371600" y="3382920"/>
            <a:ext cx="6400800" cy="3475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7"/>
          <p:cNvSpPr/>
          <p:nvPr/>
        </p:nvSpPr>
        <p:spPr>
          <a:xfrm>
            <a:off x="114480" y="1552680"/>
            <a:ext cx="874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teria convert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mmonium), providing plant with fixed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 feeds sugars to the bacte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xylem transport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1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/>
          <p:cNvPicPr/>
          <p:nvPr/>
        </p:nvPicPr>
        <p:blipFill>
          <a:blip r:embed="rId1"/>
          <a:srcRect l="21658" t="0" r="9557" b="59005"/>
          <a:stretch/>
        </p:blipFill>
        <p:spPr>
          <a:xfrm>
            <a:off x="2286000" y="2362320"/>
            <a:ext cx="4495680" cy="3413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0" y="836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ell wall helps maintain a cell’s shape, but the plasma membrane regulates the traffic of molecules into and out of a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2362320" y="2438280"/>
            <a:ext cx="2895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7459920" y="6261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xylem transport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84320" y="806400"/>
            <a:ext cx="309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 some species of trees the process moves water and nutr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&gt; 100 m upwar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rcRect l="0" t="0" r="0" b="6003"/>
          <a:stretch/>
        </p:blipFill>
        <p:spPr>
          <a:xfrm>
            <a:off x="3330720" y="609480"/>
            <a:ext cx="5805360" cy="62485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6"/>
          <p:cNvSpPr/>
          <p:nvPr/>
        </p:nvSpPr>
        <p:spPr>
          <a:xfrm>
            <a:off x="3389400" y="968400"/>
            <a:ext cx="1214280" cy="58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6885000" y="614520"/>
            <a:ext cx="2259000" cy="62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6483240" y="6667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6105600" y="4038480"/>
            <a:ext cx="1420560" cy="4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6165720" y="394488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6207120" y="38671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6616800" y="3595680"/>
            <a:ext cx="142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6472080" y="37465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 rot="19495800">
            <a:off x="6227640" y="3708000"/>
            <a:ext cx="652680" cy="12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6748560" y="5327640"/>
            <a:ext cx="142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1564200" y="62085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xylem transport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84320" y="806400"/>
            <a:ext cx="309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arly all of the energy to drive the process comes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rcRect l="0" t="0" r="0" b="6003"/>
          <a:stretch/>
        </p:blipFill>
        <p:spPr>
          <a:xfrm>
            <a:off x="3330720" y="609480"/>
            <a:ext cx="5805360" cy="62485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6"/>
          <p:cNvSpPr/>
          <p:nvPr/>
        </p:nvSpPr>
        <p:spPr>
          <a:xfrm>
            <a:off x="3389400" y="968400"/>
            <a:ext cx="1214280" cy="58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885000" y="614520"/>
            <a:ext cx="2259000" cy="62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483240" y="6667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6105600" y="4038480"/>
            <a:ext cx="1420560" cy="4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6165720" y="394488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6207120" y="38671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616800" y="3595680"/>
            <a:ext cx="142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6472080" y="37465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4"/>
          <p:cNvSpPr/>
          <p:nvPr/>
        </p:nvSpPr>
        <p:spPr>
          <a:xfrm rot="19495800">
            <a:off x="6227640" y="3708000"/>
            <a:ext cx="652680" cy="12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6748560" y="5327640"/>
            <a:ext cx="142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7853400" y="698400"/>
            <a:ext cx="109044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185760" y="3252960"/>
            <a:ext cx="309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broken chains of water molecules (held together by cohe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-bonds) fill xylem ve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6993000" y="2430360"/>
            <a:ext cx="2043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vapor-ation at the top pulls water up from th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1564200" y="62085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xylem transport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8" descr=""/>
          <p:cNvPicPr/>
          <p:nvPr/>
        </p:nvPicPr>
        <p:blipFill>
          <a:blip r:embed="rId1"/>
          <a:srcRect l="0" t="0" r="0" b="4762"/>
          <a:stretch/>
        </p:blipFill>
        <p:spPr>
          <a:xfrm>
            <a:off x="196920" y="1920960"/>
            <a:ext cx="7734240" cy="46400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"/>
          <p:cNvSpPr/>
          <p:nvPr/>
        </p:nvSpPr>
        <p:spPr>
          <a:xfrm>
            <a:off x="252360" y="768240"/>
            <a:ext cx="838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evaporation of water out of leaves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 called 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5370480" y="1859040"/>
            <a:ext cx="2773440" cy="4771800"/>
          </a:xfrm>
          <a:prstGeom prst="rect">
            <a:avLst/>
          </a:prstGeom>
          <a:solidFill>
            <a:srgbClr val="faebd7"/>
          </a:solidFill>
          <a:ln w="9360">
            <a:solidFill>
              <a:srgbClr val="faeb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5099040" y="4433760"/>
            <a:ext cx="268200" cy="1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132480" y="61023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xylem transport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rcRect l="0" t="0" r="0" b="4762"/>
          <a:stretch/>
        </p:blipFill>
        <p:spPr>
          <a:xfrm>
            <a:off x="196920" y="1920960"/>
            <a:ext cx="7734240" cy="46400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252360" y="768240"/>
            <a:ext cx="83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ater vapor escapes through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5370480" y="1859040"/>
            <a:ext cx="2773440" cy="4771800"/>
          </a:xfrm>
          <a:prstGeom prst="rect">
            <a:avLst/>
          </a:prstGeom>
          <a:solidFill>
            <a:srgbClr val="faebd7"/>
          </a:solidFill>
          <a:ln w="9360">
            <a:solidFill>
              <a:srgbClr val="faeb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5099040" y="4433760"/>
            <a:ext cx="268200" cy="1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"/>
          <p:cNvPicPr/>
          <p:nvPr/>
        </p:nvPicPr>
        <p:blipFill>
          <a:blip r:embed="rId2"/>
          <a:stretch/>
        </p:blipFill>
        <p:spPr>
          <a:xfrm>
            <a:off x="5589720" y="1978200"/>
            <a:ext cx="2235240" cy="45720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0"/>
          <p:cNvSpPr/>
          <p:nvPr/>
        </p:nvSpPr>
        <p:spPr>
          <a:xfrm>
            <a:off x="132480" y="61023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6563160" y="60991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xylem transport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rcRect l="0" t="0" r="0" b="6003"/>
          <a:stretch/>
        </p:blipFill>
        <p:spPr>
          <a:xfrm>
            <a:off x="3330720" y="609480"/>
            <a:ext cx="5805360" cy="62485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3389400" y="968400"/>
            <a:ext cx="1214280" cy="58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6885000" y="614520"/>
            <a:ext cx="2259000" cy="62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6483240" y="6667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6105600" y="4038480"/>
            <a:ext cx="1420560" cy="4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6165720" y="394488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6207120" y="38671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6616800" y="3595680"/>
            <a:ext cx="142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6472080" y="37465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 rot="19495800">
            <a:off x="6227640" y="3708000"/>
            <a:ext cx="652680" cy="12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6748560" y="5327640"/>
            <a:ext cx="142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184320" y="806400"/>
            <a:ext cx="309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ranspiration creates a water pressure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3"/>
          <p:cNvSpPr/>
          <p:nvPr/>
        </p:nvSpPr>
        <p:spPr>
          <a:xfrm>
            <a:off x="1564200" y="62085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xylem transport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rcRect l="0" t="0" r="0" b="6003"/>
          <a:stretch/>
        </p:blipFill>
        <p:spPr>
          <a:xfrm>
            <a:off x="3330720" y="609480"/>
            <a:ext cx="5805360" cy="62485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5"/>
          <p:cNvSpPr/>
          <p:nvPr/>
        </p:nvSpPr>
        <p:spPr>
          <a:xfrm>
            <a:off x="6885000" y="614520"/>
            <a:ext cx="2259000" cy="62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6483240" y="6667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105600" y="4038480"/>
            <a:ext cx="1420560" cy="4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6165720" y="394488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6207120" y="38671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6616800" y="3595680"/>
            <a:ext cx="142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6472080" y="37465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 rot="19495800">
            <a:off x="6227640" y="3708000"/>
            <a:ext cx="652680" cy="12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6748560" y="5327640"/>
            <a:ext cx="142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184320" y="806400"/>
            <a:ext cx="309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ranspiration creates a water pressure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185760" y="3316320"/>
            <a:ext cx="30956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ower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t the top is the tension that pulls water up from th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6993000" y="1335240"/>
            <a:ext cx="2043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ater flows upward through xylem vessels by bulk flow down the pressure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1564200" y="62085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xylem transport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rcRect l="0" t="0" r="0" b="6003"/>
          <a:stretch/>
        </p:blipFill>
        <p:spPr>
          <a:xfrm>
            <a:off x="3330720" y="609480"/>
            <a:ext cx="5805360" cy="62485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9"/>
          <p:cNvSpPr/>
          <p:nvPr/>
        </p:nvSpPr>
        <p:spPr>
          <a:xfrm>
            <a:off x="184320" y="806400"/>
            <a:ext cx="309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Transpiration-Cohesion-Tens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0"/>
          <p:cNvSpPr/>
          <p:nvPr/>
        </p:nvSpPr>
        <p:spPr>
          <a:xfrm>
            <a:off x="1564200" y="62085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0"/>
          <p:cNvSpPr/>
          <p:nvPr/>
        </p:nvSpPr>
        <p:spPr>
          <a:xfrm>
            <a:off x="152280" y="152280"/>
            <a:ext cx="87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plants regulate the transport  of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152280" y="152280"/>
            <a:ext cx="87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plants regulate the transport  of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1690560" y="1162080"/>
            <a:ext cx="6075360" cy="45561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997360" y="6811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0" y="5705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s actively transported into and out of guar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152280" y="152280"/>
            <a:ext cx="87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plants regulate the transport  of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1690560" y="1162080"/>
            <a:ext cx="6075360" cy="45561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4"/>
          <p:cNvSpPr/>
          <p:nvPr/>
        </p:nvSpPr>
        <p:spPr>
          <a:xfrm>
            <a:off x="2997360" y="6811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0" y="57056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en [K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] is high, the amount of 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0 is high,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d guard cells open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21658" t="0" r="9557" b="59005"/>
          <a:stretch/>
        </p:blipFill>
        <p:spPr>
          <a:xfrm>
            <a:off x="2286000" y="2362320"/>
            <a:ext cx="4495680" cy="3413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0" y="836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lasmodesmata provide cytosolic connections amo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362320" y="2438280"/>
            <a:ext cx="2895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0" y="5881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tosol = cytoplasm minus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459920" y="6261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152280" y="152280"/>
            <a:ext cx="87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plants regulate the transport  of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1690560" y="1162080"/>
            <a:ext cx="6075360" cy="45561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4"/>
          <p:cNvSpPr/>
          <p:nvPr/>
        </p:nvSpPr>
        <p:spPr>
          <a:xfrm>
            <a:off x="2997360" y="6811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0" y="57056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en [K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] is low, the amount of 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0 is low,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d guard cells close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52280" y="152280"/>
            <a:ext cx="87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plants regulate the transport  of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1690560" y="1162080"/>
            <a:ext cx="6075360" cy="45561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"/>
          <p:cNvSpPr/>
          <p:nvPr/>
        </p:nvSpPr>
        <p:spPr>
          <a:xfrm>
            <a:off x="2997360" y="6811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0" y="5705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ght stimulates the uptake of K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by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uard cells, open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152280" y="152280"/>
            <a:ext cx="87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plants regulate the transport  of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1690560" y="1162080"/>
            <a:ext cx="6075360" cy="45561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4"/>
          <p:cNvSpPr/>
          <p:nvPr/>
        </p:nvSpPr>
        <p:spPr>
          <a:xfrm>
            <a:off x="2997360" y="6811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0" y="57056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ow [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] stimulates the uptake of K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by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uard cells, open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52280" y="152280"/>
            <a:ext cx="87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plants regulate the transport  of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1690560" y="1162080"/>
            <a:ext cx="6075360" cy="45561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4"/>
          <p:cNvSpPr/>
          <p:nvPr/>
        </p:nvSpPr>
        <p:spPr>
          <a:xfrm>
            <a:off x="2997360" y="6811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0" y="57056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ow 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 availability inhibits the uptake of K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by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uard cells, clos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152280" y="67140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gars manufactured in leaves diffuse to phloem companion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rcRect l="0" t="0" r="0" b="4651"/>
          <a:stretch/>
        </p:blipFill>
        <p:spPr>
          <a:xfrm>
            <a:off x="414360" y="1673280"/>
            <a:ext cx="8381880" cy="515448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6"/>
          <p:cNvSpPr/>
          <p:nvPr/>
        </p:nvSpPr>
        <p:spPr>
          <a:xfrm>
            <a:off x="460440" y="5924520"/>
            <a:ext cx="39996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5430960" y="5931000"/>
            <a:ext cx="399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5340240" y="2744640"/>
            <a:ext cx="3457800" cy="407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4214880" y="3235320"/>
            <a:ext cx="1436760" cy="19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 rot="558600">
            <a:off x="4165560" y="4663800"/>
            <a:ext cx="476280" cy="55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2789640" y="6165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152280" y="67140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panion cells actively transport sugars into sieve-tube members (el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rcRect l="0" t="0" r="0" b="4651"/>
          <a:stretch/>
        </p:blipFill>
        <p:spPr>
          <a:xfrm>
            <a:off x="414360" y="1673280"/>
            <a:ext cx="8381880" cy="51544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460440" y="5924520"/>
            <a:ext cx="39996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5430960" y="5931000"/>
            <a:ext cx="399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789640" y="6165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68640" y="611280"/>
            <a:ext cx="5175360" cy="624816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8"/>
          <p:cNvSpPr/>
          <p:nvPr/>
        </p:nvSpPr>
        <p:spPr>
          <a:xfrm>
            <a:off x="184320" y="806400"/>
            <a:ext cx="363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od (sugars) are then translocated from sources to sinks according to the Pressure-Flow The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185760" y="3657600"/>
            <a:ext cx="363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 At sources, sugars are actively transported into ph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2100960" y="6165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68640" y="611280"/>
            <a:ext cx="5175360" cy="62481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184320" y="806400"/>
            <a:ext cx="363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od (sugars) are then translocated from sources to sinks according to the Pressure-Flow The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185760" y="3657600"/>
            <a:ext cx="363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 Water follows by osmosis from source cells and xyl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87200" y="4937040"/>
            <a:ext cx="363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s creates high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2100960" y="6165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68640" y="611280"/>
            <a:ext cx="5175360" cy="624816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"/>
          <p:cNvSpPr/>
          <p:nvPr/>
        </p:nvSpPr>
        <p:spPr>
          <a:xfrm>
            <a:off x="184320" y="806400"/>
            <a:ext cx="363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od (sugars) are then translocated from sources to sinks according to the Pressure-Flow The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85760" y="3657600"/>
            <a:ext cx="3633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 At the sink, sugars diffuse out of the phloem and water follows by osmosi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187200" y="53658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s creates low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100960" y="6165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21658" t="0" r="9557" b="59005"/>
          <a:stretch/>
        </p:blipFill>
        <p:spPr>
          <a:xfrm>
            <a:off x="2286000" y="2362320"/>
            <a:ext cx="4495680" cy="3413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0" y="836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acuoles often account for 90% of a plant cell’s volume, but they are never shared by adjace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362320" y="2438280"/>
            <a:ext cx="2895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7459920" y="6261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68640" y="611280"/>
            <a:ext cx="5175360" cy="624816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5"/>
          <p:cNvSpPr/>
          <p:nvPr/>
        </p:nvSpPr>
        <p:spPr>
          <a:xfrm>
            <a:off x="184320" y="806400"/>
            <a:ext cx="363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od (sugars) are then translocated from sources to sinks according to the Pressure-Flow The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185760" y="3657600"/>
            <a:ext cx="363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gar solution flows from high to low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100960" y="6165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68640" y="611280"/>
            <a:ext cx="5175360" cy="624816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5"/>
          <p:cNvSpPr/>
          <p:nvPr/>
        </p:nvSpPr>
        <p:spPr>
          <a:xfrm>
            <a:off x="184320" y="806400"/>
            <a:ext cx="363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od (sugars) are then translocated from sources to sinks according to the Pressure-Flow The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185760" y="3657600"/>
            <a:ext cx="363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. Water may be taken up by the transpiration stream in the xy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2100960" y="6165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1"/>
          <a:stretch/>
        </p:blipFill>
        <p:spPr>
          <a:xfrm>
            <a:off x="1544760" y="115740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7"/>
          <p:cNvSpPr/>
          <p:nvPr/>
        </p:nvSpPr>
        <p:spPr>
          <a:xfrm>
            <a:off x="150840" y="592200"/>
            <a:ext cx="54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essure-Flow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Not all herbivores chew leav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50840" y="592200"/>
            <a:ext cx="54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me exploit 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" descr="Aphid"/>
          <p:cNvPicPr/>
          <p:nvPr/>
        </p:nvPicPr>
        <p:blipFill>
          <a:blip r:embed="rId1"/>
          <a:stretch/>
        </p:blipFill>
        <p:spPr>
          <a:xfrm>
            <a:off x="254160" y="1246320"/>
            <a:ext cx="4624200" cy="4208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aphids"/>
          <p:cNvPicPr/>
          <p:nvPr/>
        </p:nvPicPr>
        <p:blipFill>
          <a:blip r:embed="rId2"/>
          <a:stretch/>
        </p:blipFill>
        <p:spPr>
          <a:xfrm>
            <a:off x="4983120" y="371160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7"/>
          <p:cNvSpPr/>
          <p:nvPr/>
        </p:nvSpPr>
        <p:spPr>
          <a:xfrm>
            <a:off x="5152680" y="2571840"/>
            <a:ext cx="3695040" cy="7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, aphids tap sieve-tu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for phloem 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rcRect l="0" t="45997" r="0" b="2998"/>
          <a:stretch/>
        </p:blipFill>
        <p:spPr>
          <a:xfrm>
            <a:off x="1981080" y="2362320"/>
            <a:ext cx="5048280" cy="3278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0" y="836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bstances can move from cell to cell via the symplastic, apoplastic, or transmembrane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362320" y="2438280"/>
            <a:ext cx="3200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7459920" y="6261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730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lutes tend to diffuse down concentration grad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1828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assive transport is diffusion across 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2666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assive transport is generally slow, unless solutes travel through transport proteins in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0" y="3887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me transport proteins are selective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0" y="4726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me selective channels are “gated” – environmental stimuli open or clos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730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tive transport requires energy to move solutes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p their concentration or charge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rcRect l="0" t="0" r="50002" b="57116"/>
          <a:stretch/>
        </p:blipFill>
        <p:spPr>
          <a:xfrm>
            <a:off x="558720" y="2895480"/>
            <a:ext cx="6222960" cy="2816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0" y="1797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E.g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, proton pumps are very common active transport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609480" y="5257800"/>
            <a:ext cx="2133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0" y="5759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ton pumps create membrane potentials; potential energy can be used to perform cellula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7169400" y="380844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23:24:56Z</dcterms:created>
  <dc:creator>kharms</dc:creator>
  <dc:description/>
  <dc:language>en-US</dc:language>
  <cp:lastModifiedBy>Lyn Clarkson</cp:lastModifiedBy>
  <dcterms:modified xsi:type="dcterms:W3CDTF">2008-10-28T02:36:27Z</dcterms:modified>
  <cp:revision>113</cp:revision>
  <dc:subject/>
  <dc:title>How do plants acquire carbon, hydrogen, and oxygen?</dc:title>
</cp:coreProperties>
</file>